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CC6-E417-4AC5-8F64-6092B5BD41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F00-689E-4FBD-8032-0E4043F48C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3BD-DAFC-4B50-8C88-06011864A2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25D-A2AB-4F99-9642-97B8A4EC3C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BB7-BFAF-4E02-A5B9-4F4C315AFC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669-945D-4987-B477-2F614349FC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95BC7-5B1E-4DE9-9A3F-86D02A9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CFDE-6605-4B32-BF4C-C584221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7062-8A30-45EB-9B7B-2ECFD662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8466-F43C-4C14-A9A2-C810D78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73A0B-23F5-490A-BDB9-6F6CF2F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0ABD-5A54-4873-8E4E-BC688BC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0C1C3-0ED4-4707-85D8-F1093BA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E244-C757-43DA-B4CC-7843D80B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40946-BBA0-48AC-8DF4-0793BE17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FEE3C-7648-4D16-8E00-D905FB16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4F28-F023-4637-8DC6-EB5EF9F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6837-4FDD-4EA0-A054-C38A645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2479-6235-4369-8693-B6AE438C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9717-4A0A-4D77-92D9-372CB59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6628-7BC9-4D0D-ACDC-DAD4494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0446-E7E3-480D-BC0E-61CC73C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2C1C-385A-4B3B-908F-AA1C6003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DFCC0-D21F-4B19-ACC0-2A9023D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A821-C2A3-42CC-B498-953E99AB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61D4-4EB7-4DD6-B75A-087EB8AB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A236-7C64-4FC5-A486-8DA940CF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4C27A-1062-40CD-AD17-DE6A5E0A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5EA8-DCAE-44D4-BF5B-035E778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C31A2-0C3A-4381-88EC-6306215E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5A68A-CF10-4BDB-8DB9-4CB63A45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0AF55-F5E8-40C9-8F90-51D6CCB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8A82-937C-4009-A366-13E41CC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E16F6-699B-431A-8F63-F8B6590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8F878-32E8-4948-9D25-260E925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23C8B-1034-4C6B-BA63-4AE626F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927-BC04-4449-8886-6FE9CE86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AEA22-BF82-4F77-B34E-2041310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7237-C5AA-46AB-A7FF-B05498D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4D17D-B3A8-4369-A6E4-807175AC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2A531-7514-4CC3-AF3D-831E46C9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6CF1-B1C4-46E2-B4DB-B6B9D5BB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3ABF1-0613-49A6-BDBF-1366901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5C85-43A8-4915-B463-9BB0C12D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EE4C8-B39F-4722-BE6F-4A10B17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A73B8-DBFF-4788-B2B6-E4041A6F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4C02D-8A2F-4980-A076-8553FFC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0C0-A295-49FB-87EB-E7D0E2FB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07776-C809-435E-9E6A-CA75BA9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33084-E3BE-4C14-B1CF-29DA06D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5F95D-176E-46F3-BBA5-5147D4C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5BE3D-A01F-4E79-BD15-C928C543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BA634-F39A-42B1-A616-60BE828B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6B2B-2BB4-4C10-AC39-B3406D7D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5D3C2-241F-4829-AC47-0E96DBE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AACAE-394C-4983-A5B8-737937D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D0449-9882-425C-A5BB-94CE75DA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97ED6-A87E-42F5-A1E9-2A7CE74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A0C-B968-47A9-B7E3-6216CA5F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AD38-0FA9-4A88-9C2A-C1BA8D5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7BE9A-2094-4ACC-8078-1A136E1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53427-1E14-463C-AFB1-8C504337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FFA1A-A4A0-454D-AD01-00540535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FB52-F798-4F22-B3F4-830A4A1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A4AA-6966-44CD-ACEF-BA7D8BF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EDD9B-FCF4-4495-8814-DF64CFD4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AB940-23BA-42E6-9AAE-6271A4A6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EE18-1697-4514-AD46-64DCB9C6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33A07-FD2F-49F9-81EA-D0BD5C7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FC1-877A-47E1-A7A3-BE7210C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B499B-CA7E-4687-B47F-608E683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71FBF-006F-4414-A227-2655EE1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CB1E9-E122-46DD-8318-13D511A9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F4D2-0482-4D54-A5EC-4A739B8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0D60E-F209-4D14-A8E4-E3FD58F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13E8-3121-4052-9F46-96A6183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AFFB3-E151-4541-B066-C42DBACE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5BC19-6F94-487C-B44D-9EB9820A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35F29-F948-470F-A749-9E073D17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C235A-AAE7-453F-8101-AE3CC5B6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949-C3C0-477E-B5D3-2C4F582D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62019-4AD1-41DA-AAFE-B361E64A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BC8F5-552E-4F98-B582-14C4E36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0F7C1-63D1-4C83-AD0C-BEBBA6CD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F462D-8003-48AD-A0CB-F0578B1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58AEE-06B1-4BB7-9E8C-740E346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7498C-9FD7-41BD-A669-1A6B17D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72DDE-3DF4-4273-84F1-848BAB9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885DC-A941-404D-AE85-E467E5F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AF278-1A0E-4235-9A42-621C1A2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5D164-8814-4781-87E4-EA3AE008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5EE-28CA-4073-B09C-636B809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75C2E-F7E3-4E1F-8EA1-DBA48FC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A9C35-C8E1-47D0-86C2-282CF897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19F21-F2BD-4D2D-B998-BD3648F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3A727-0A76-42F8-8E6E-40D69AB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27E9E-83AF-4EB7-883B-F953C65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EAA6B-EA27-4348-87F8-D97310F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85AF6-C947-480F-9E13-5BCEF374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5E238-B98A-4CDA-A696-D4ECE5E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0E5DF-6545-4346-96D5-5E0F51D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96199-FCE9-4719-A8E1-0A2B1E4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280-4376-4C31-A461-87500C5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7CD2A-C9FB-465E-B512-785A31A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18A58-1F2F-4BC5-865A-7D4397C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59C0D-7853-45A5-94FA-B488A37C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FF85F-3EF2-4660-8268-63FAA04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DB0D6-29AF-4CAE-8495-9812046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23493-4D48-405B-872F-218D98EE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4E5F7-0944-420B-BA47-88B1C68D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F2B37-17FB-482A-8F6B-49BCA7A1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FC1DF-AB6B-4221-B306-5A54D6B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E973A-DDB1-44B1-965B-CDF02E3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8FD-E7C1-42C1-8A46-03DD319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04025-155F-40C8-9C9B-F1CA14B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2CB9C-370C-412F-853E-3D4CCE4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179F6-D68B-4379-A65B-20B88098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EF501-AC50-4D4D-925E-9C0E68F4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8347D-B910-4BBD-A1A9-072F2FB9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D6A3E-8D0D-477C-B0FE-876BF30D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76F76-9F0D-4D95-ADE1-1F8877C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6559F-39F9-4E3C-95B5-C52F5C6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BE315-136F-4F53-9927-CB3DC39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F1435-3480-40B8-9EB3-D8DB7EB5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A27-11C9-4328-BC54-5523CE7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75623-E9B6-44F1-A182-B0F349D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08E96-4097-4DE8-8779-8F49BB1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7C4AD-7DAB-41D3-B134-93F0EFF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FA34C-9359-406A-819D-6FAB0A7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D3213-2AC2-48C5-AD34-CAEA337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9CC6F-134B-4CCE-A23C-5254D46E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9B5AE-B383-4DD9-A9AF-A8F8ADF5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5515B-87EF-4765-86AB-F904638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3748B-92C1-41E9-8594-EA3B1ED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C3269-BEDD-44EB-A9DA-91E41A9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33A-30DF-49B7-A1D6-4387CC3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2CDDF-CF0D-448F-8F35-B513092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3219B-85DE-4306-A926-90324CE5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E5FD9-4081-4E50-AA95-7709BE5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DCA7F-1FB9-4825-BFE1-CC4BA40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21C96-7F7F-4198-9FCB-0EF2501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927A5-8896-4768-A900-9593002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933CD-BE3D-4018-BBFE-7B3D8A95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A4094-0046-444F-B2C9-289CCA12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DDEA9-517E-4342-A97E-E2E42AE3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B081C-7B15-4612-BD51-86142543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F20-D73B-4F0D-8910-C4D8AB41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DA643-7C30-4AA5-B3B6-EB8D29D0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29BEA-012C-4603-B88F-7D7EF307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03BEC-6AAB-40D1-8EFC-8210EC3F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639C0-CF01-4BD4-BB54-C5938737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413B4-B7DF-45E9-B64C-C1FD38A7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A6E6A-ACDE-43B6-808C-5195511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8D557-75D8-4DA9-8819-D0FC934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03E90-163D-4EE5-828A-32F96D1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3D8E0-299B-476B-859C-11B018CD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35876-117D-46E5-8EA4-14A04E0B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B8B-9870-4296-A5D0-51C09F53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7CE2F-9EF3-489D-8338-E3E5DD6B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B8CCB-93AB-453D-806E-34535DB5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87CF6-3CB7-49B8-9042-944B01B1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B6E80-BF6E-4604-BA95-9F4D9CE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9BC63-15F4-4B52-8517-B3416F42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435A0-1EE9-4D2F-94BE-2D33DC6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9234B-F75F-49CE-A075-E3527B89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33C4E-0BF2-42DF-8001-0104630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2D4F5-DD30-4044-B1E4-C1A3DD1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EAD6F-23C0-4E0B-B9A2-83E6183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BF3-4039-4708-B737-F3BF04F7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E1A51-721F-496F-9F21-9DF71381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503F4-EC7A-4DC4-98B8-D727E903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7FD0F-7C68-44B7-BE5F-D15A3061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24AEF-2D3E-464E-B68D-8F5B666A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D83B8-E16E-44D6-8557-D12CFBCB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5C994-E88A-408A-AACF-D312A48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B81C8-1F74-49B1-8305-DCD73E5C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C16FD-2976-4C95-ABAE-E4F55B2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DEAAA-9C87-42CA-9027-6EE7D035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18650-E580-4836-9FD0-78F380F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F9B7-7B4E-4542-BDC8-EDB524A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17231-7D29-4549-8810-AB5D54C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80012-15C9-4B84-B207-AA5B73A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A2D6C-1D8C-4B20-B1FF-157E2E9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85103-5461-4796-9B4B-BEC3C074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6D4D4-94D7-4ED7-88E0-911FCE0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BC2B5-0BB9-44BA-9C3C-AE3BFD19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752FF-9EE8-483B-A754-4ADF1867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45D6A-CB40-4DB0-BB58-C422D6E3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37230-E08B-4E5B-BD1E-F83F88D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A8E03-90B8-44FD-A0D4-24A7257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64BD-7C4F-482F-B5D3-DEE8CFB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11F52-6FA0-467C-A27B-3F4C70A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B27AB-D4FA-4A7C-A3D0-88F9887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AAA45-60CC-479A-BE2C-7FF8092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32C67-A10D-41AC-BFAA-596AF30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80492-47C0-4FB2-93BA-B2238E4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4AD51-D92E-4382-A553-B7B3108C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918D2-9723-43D1-94AC-29D53FBC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E43B03-BEB0-44AD-9FAC-D5DCA85B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EF855F-59B5-473A-B562-84EE84CE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E2AEE-CAE9-4B11-A089-51332297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364-4255-42D9-B5C0-9190206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A9B5D-354B-4FDF-9D7E-50CC60AF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841E53-A8EE-4575-B736-0FE1F05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2922B-102A-47E5-8AFC-6F201866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7A205-F275-4A2A-BD66-AEE171A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1D47F-4EF8-4E82-8B93-C340526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2D6E1F-BCEC-456D-A262-8D231D0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06417-C785-4808-B6E6-6D3D8621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802066-7EAE-4183-AA7E-D144C727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327DE-F2B2-4412-BF20-DE8DA8E9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3AA4D-68BC-4F88-A087-06A71578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68B-705E-4E2F-91AF-A936EE9F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0DE55-7A25-4D55-B580-140CFC56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8BC75A-56B9-4F96-96EF-30DB350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E7A83F-21A3-4140-AA78-505D88B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88ACE-8686-432B-8D0E-210EAC4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0A241-A05E-4ADB-B82D-7BCA4D21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4DC45-6842-4F08-95C7-4A6B855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BB880-9528-41E1-A9C0-1E317DA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8206E-B68E-40C4-A258-C276B083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0705B1-EEE6-41F2-AF9E-D0DE5E69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BA22C6-A561-46A3-932C-BF2DF36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C278-CF6C-4C8E-8345-948630D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E881E-8DA5-45CA-B930-142B5013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0B2164-7CE8-4CEE-95C9-3F12A51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09EDF6-8CFA-4621-B8C6-67BA12A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D153C-C23B-4D15-939F-A70613F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E6708C-B1BC-4EB3-8D79-A49CE19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35671-E268-439F-8200-A54DD51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ECC76-1102-458A-8FD1-29ECC77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D4A022-D5AB-4D00-8F65-68BC2B2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D5C8A-6C48-4818-9FB9-5971D3D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F7C5C-89AA-4BC8-91CB-EC16BDC4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E71-DD0F-4309-9298-863D99B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7C8EAA-E796-476C-BB42-5BF58FC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DD232-F786-40AF-A493-41AE9C5D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062DC2-9555-4D1F-8A74-DE24D2D9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92F229-783F-4C18-B4A4-0267A2BF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75062-AD11-4A0D-9E18-5AAD88B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7B0C0-E15D-4CBE-9D3B-2A47644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E79C1-310E-45F3-93A2-D24800E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191820-4C12-468B-A45E-F787BD8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421A10-28F9-4BD7-97EE-CA44DBB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F875D7-C366-4DC0-85AA-FBADE33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242-8C33-4875-AADA-023AD6C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42C853-9281-4E2D-839E-C566AAE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EEFFE2-BEAA-4D59-BC22-75E7F90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5A5812-1B00-480A-8B19-6F00439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E9067C-C122-46E0-AE1E-A1EC4951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19ED80-DCF8-4B09-B587-248CA701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C45D37-8885-4FBA-972A-62CA4F74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7F2F6-70E5-4BD5-8A53-890ADA0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A4F041-7F3D-44D9-B9BA-14BBD29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4BB10E-F153-4FBF-A02C-ECDB3370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EB6E27-3840-41AD-8556-0A7831F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DC45-2F09-43DF-9A3C-CC28AC97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442EB0-ABAF-446A-89C9-0B4F325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CA157-B5DE-4C4F-A0FE-A68918F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1F594-FE69-41A8-ACC2-4487C6C9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365C5-DD6A-476D-A90D-47CF06C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EE0C9C-4DD0-480D-9ADC-3D93FFB9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75E321-A0E9-4521-8DD5-E5302DBF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CC5341-89A2-4729-8754-6F747D27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241-2D9E-4488-AF34-0870AA6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D7DE-CFF4-4404-A3F5-AB50B79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F184-1283-4BFE-8394-ACCCE55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B122-E6B1-42CC-896A-3C3F0B4D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73A9-7EFF-4C08-AB33-B1B8946F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25BE-AC2B-4524-8499-23329383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7EE3-8E82-4298-956C-1A1E8BE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A28F-2978-426E-AC26-CC8768D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A8B4-613D-4387-AEC4-648D01A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9366-B3F2-49B7-A425-A91A856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6C0A-DB94-448E-80DC-FA97E5A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089F-C836-42E5-A890-1C7A5990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8EB6-5B13-4FAC-AEB8-75C0D79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7541-FE6A-483B-B5B7-7FBC22AA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27A7-1D5C-4D35-82FF-209AA1A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5AE5-4A8D-4840-B6FA-3A3C2EF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B2AF-DD64-4D7C-9B8F-5348899B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0FAE-93E5-4A72-B3A1-CD581140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9466-A7B3-457C-9C13-7B49CD7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28F6-497E-44CF-9D9F-642D9A58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FFA6-121D-4134-8691-EDA31A04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5C66-187F-4847-B586-A96C40B5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BAF4-0DC7-445A-B949-7DFC060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01C1-E040-49D3-A3E0-B58D839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A5E5-470C-4854-95D1-37EAB4E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80AB-D50E-4784-8544-EB051C1F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05F4-9782-4A98-911A-C7B203BF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0EC04-68F1-4A32-A145-AE5E6E11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A680-3D53-45AF-B5F6-CED629DE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956AB-1AB4-472F-8531-E294978B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ECE1-CF00-4397-83E2-A2F99EF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92FF-D2D4-476F-B4B6-C08C7AAD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52AF-E824-4EFB-93D8-85CF60D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1D80-9F3A-48D4-AC08-41CBC79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7D3B-E124-4322-9F97-96092D4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F945-29D8-4DBD-9B2A-62090DA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EDCE-469D-453D-89F5-1E775B9B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10D3-E339-463D-B21B-9C0F314C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575B-2C67-47C1-9068-79E203A1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20BCD-AC70-42CA-A2AC-BECDBAE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A365-4542-4BE9-A5C4-D8B2903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4C63-0710-4386-8A77-E01ECD57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B8A9-A189-4FCF-A6CD-E4D2B1B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D5EF-6058-4E60-866D-C1EF5EC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676F-C74E-494D-92DC-5949AD3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2A88-2130-4DB3-BFA8-3DA8A95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CCC6-3859-445E-A260-78C1E26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1DC7-13D5-4A65-98F0-070E4B7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719F-B5F3-4AB4-82FA-70191726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75E1-1E13-42D4-B1DF-0C85633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7F20-5B2D-4386-A4F5-53FC44C7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B7A5-996D-4E38-A923-D68C425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DA85-AA5C-4017-A2F2-F054194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56AF-EAFD-4987-BC24-3ECF5E4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D22-B80A-493B-A171-46707D5E35F2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215-3B79-4E50-A248-1B0B9B7198A0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56E-EDC5-472D-87AE-9C0C699837F8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531-9F29-4353-9CD1-1C5F9F5CE3B1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681-60EA-4D9A-8959-8FACF71037D0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B7A-B033-4AA2-861A-90988DD8B1A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C68-8F7E-4573-98BC-87F5EE6DBA2F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4BF-7D93-4CDC-B0AD-259C92F35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5BB-7D2E-4290-83AD-B307112BE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EFB-21EA-4176-8129-53637D75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F9B-1D90-408E-B097-222908D3334C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939-BC5B-4A02-A46C-2C1325367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946-0287-403E-93B2-6A4ECC99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0596-49AA-49C3-AFFE-929001C7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A8F7-CCE2-4FFC-940B-05C4D250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3D0-8F24-4403-9B69-7CAA68FC5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FC7-3337-4A43-BA68-EB61613C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4BA-D872-437B-AFB5-8DF91136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23A-6EAF-4ED2-9C82-1DC598A5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B58-8348-441B-AA1A-B17F6B55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670A-5E6B-40BE-8EEB-CE5487B33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68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4485-2D7A-480B-95A7-9CD6C51A2A0D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EE0-639C-4B6F-B96C-837DD182FEF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8F7F-05AD-4B20-9122-751624216398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4790-FA5D-4006-9D5B-B7E9414BCECC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22D1-844B-459A-B55A-466B48EFB281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192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193" name="Text Box 3"/>
          <p:cNvSpPr/>
          <p:nvPr/>
        </p:nvSpPr>
        <p:spPr>
          <a:xfrm>
            <a:off x="1149120" y="4149720"/>
            <a:ext cx="682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: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: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 y):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Geneva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v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gent-based modeling for predator-pre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9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: eating pasture increases energy by 20. When energy is &gt;= 30 reproduces if a random neighbor is empty and cut its energy by h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 by energy (&lt;= 0) [ALL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50% chance to kill a neighbor rabbit (one chance per time step). Increases wolves energy by 20% of the habbit’s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When energy is &gt;= 50 reproduces if a random neighbor is empty and cut its energy by h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gent-based modeling for predator-pre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9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x3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ore neighbor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needs 4 time steps to become pa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space is completely filled with pa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initially 20 wolves and 20 rabb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agent starts with 40 units of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bbits consume one unit of energy per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ves consume 4 units of energy per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 runs until time 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iscuss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iscrete quantitie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iderably mor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havior is also mor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e difficult to ca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uch more possibilit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9-05T17:29:17Z</dcterms:modified>
  <cp:revision>487</cp:revision>
  <dc:subject/>
  <dc:title>Low-carbon growth in Brazil?</dc:title>
</cp:coreProperties>
</file>